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CA9-5456-4EAB-B7F3-6877E365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60C-4C1B-4805-A330-2DC95488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4C8-49B8-4CA3-9C92-92D1AD92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C21-4EE3-4A19-A602-60867E88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897F-82BB-439A-8A63-E3D40F9A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BC65-EC6F-4D8E-9AA7-08B16E52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6DED-A962-4B47-81D4-01E3CC80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6FBF-4D99-4C0E-8F1C-FF4818A0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BEA6-8928-43FD-AB9A-25FB72DE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F5BB-CBC6-4C1C-B2AC-5A035596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59E7-BD6B-4653-BEBF-89D93982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2B8-E0E5-4500-9145-65C07A8D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D402-FB60-4DA5-BDE1-4D9BD9D4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22AB-3067-4D20-A9C3-6CF14543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E4AC-607E-47E5-9372-ECD32A1D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F3C2-D83D-409C-A0E0-863811CB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23AC-39CB-4523-9BE0-6C4963FA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A2B-24BD-422A-9A25-03E8C565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4E2-EB9A-4D7B-AFBE-4B2C66D0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CFE-CD32-48F9-9EA7-91344A6A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396-CBC4-4E84-AF6A-3D76544D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5FF-7947-44C9-AC0C-07EAEDF5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C55-4E7B-4667-8894-560224D4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1E4-F0D2-4EF3-8CA5-E6F9DB7C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D358-4C77-456D-A88C-AE3066DAFAC1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8650-A2B6-45C1-B423-D29F6053217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zc.wfu.edu.cn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zc.wfu.edu.cn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潍坊学院资产管理员培训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12 03 05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资产管理软件的具体使用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资产管理软件界面简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固定资产增加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资产管理→固定资产增加→（选择年份）确定→末级单位→增加→填写设备信息（红色必填） →保存→填写设备使用信息→提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注意：主要信息填全，分类代码选对，且到末级，批量赋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资产管理软件的具体使用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固定资产变动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资产管理→变动处置→资产变动→选择末级单位→</a:t>
            </a:r>
            <a:r>
              <a:rPr b="0" lang="zh-CN" sz="2800" spc="-1" strike="noStrike">
                <a:solidFill>
                  <a:srgbClr val="33cccc"/>
                </a:solidFill>
                <a:latin typeface="Arial"/>
              </a:rPr>
              <a:t>项目变动（除单价之外的变动）→使用单位、人→点选择→选择归口→选择末级单位→点选设备→点选择→保存 →提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单价变动→价格→点选择→选择归口→点选设备→点选择→保存 →提交    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打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注意：打变动单签字盖章给归口留底，价值变动需给资产科留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资产管理软件的具体使用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固定资产处置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资产管理→变动处置→资产处置→点选本单位 →点增加→点√选择→选择归口 →选要处置的资产  →点√选择  →填处置信息  →点保存→提交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注意：本单位无权私自处置资产，统一由国资办处置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其他信息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当发现提交的资产信息有错时，可以及时打电话给各归口管理员要求退回，资产管理软件中的“进度跟踪”可以看到该资产信息的处理进度。各归口管理员内部联系电话如下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总务归口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521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设备归口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516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图书归口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5303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财务归口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570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cc"/>
                </a:solidFill>
                <a:latin typeface="Arial"/>
              </a:rPr>
              <a:t>资产管理软件使用手册可在财务处网站（</a:t>
            </a:r>
            <a:r>
              <a:rPr b="0" lang="zh-CN" sz="1400" spc="-1" strike="noStrike">
                <a:solidFill>
                  <a:srgbClr val="33cccc"/>
                </a:solidFill>
                <a:latin typeface="Arial"/>
              </a:rPr>
              <a:t>http://cwc.wfu.edu.cn</a:t>
            </a:r>
            <a:r>
              <a:rPr b="0" lang="zh-CN" sz="1400" spc="-1" strike="noStrike">
                <a:solidFill>
                  <a:srgbClr val="33cccc"/>
                </a:solidFill>
                <a:latin typeface="Arial"/>
              </a:rPr>
              <a:t>）的“下载专区”下载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ff"/>
                </a:solidFill>
                <a:uFillTx/>
                <a:latin typeface="Arial"/>
              </a:rPr>
              <a:t>以上所讲操作应当以资产管理软件使用手册为准，还有不明白的地方请来资产管理科咨询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                                               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谢谢大家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固定资产的概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《事业单位财务规则》和《高等学校财务制度》明确规定：固定资产是指一般设备单位价值在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500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元以上，专用设备单位价值在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800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元以上，使用期限在一年以上，并在使用过程中基本保持原有物质形态的资产。单位价值虽未达到规定标准，但是耐用时间在一年以上的大批同类物资，也作为固定资产管理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财务处网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→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学习园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→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高校资产管理理论问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易耗品不入固定资产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不能确定的电话问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管理资产流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资产的增加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由资产管理员录入提交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→归口管理者审核并打印验收单、条码标签→财务审核并记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注：自购设备报销时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须持验收单和发票到相应归口部门和资产科签字后，再找相关领导签字才能报销。总务归口管理员孙洪波（房屋及构筑物、家具、土地及植物、牲畜）。图书归口管理员陈秋苹，设备归口管理员郭兴军，财务归口管理员王新莲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管理资产流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资产变动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当资产使用者、存放地点、单价等发生变化时，应该及时变动资产的相应信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管理资产流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资产的报废处置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由各单位写出报废申请报告，国资办领导（设备处）、分管院领导、院长签批后方可进入资产报废处置程序。资产处置后，在软件中打印处置单，按顺序签字后报资产科记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大型软件运行模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C/S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（客户端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服务器）模式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必须安装客户端软件，由客户端软件往服务器存取数据，本机处理多数数据，对本机要求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B/S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（浏览器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服务器）模式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在浏览器的地址栏直接输入软件地址，由浏览器往服务器存取数据，多数数据由服务器处理，对本机要求低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进入资产管理软件前的准备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浏览器要求：最好是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IE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浏览器的设置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添加可信任站点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点击工具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Internet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选项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安全 选择受信任的站点 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站点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https://</a:t>
            </a:r>
            <a:r>
              <a:rPr b="0" lang="zh-CN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ZC.WFU.EDU.CN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添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设置浏览器每次访问刷新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点击工具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Internet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选项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常规选项卡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设置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选中 每次访问此页时检查 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确定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设置浏览器自动下载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进入资产管理软件前的准备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工具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Internet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选项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安全 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自定义级别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启用“文件下载”和“文件下载自动提示” </a:t>
            </a:r>
            <a:r>
              <a:rPr b="0" lang="zh-CN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确定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解除弹出窗口阻止 （可选）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工具——弹出窗口阻止程序——关闭弹出窗口阻止程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注：“浏览器的设置”操作步骤的文件可以从“财务处网站”下载专区下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资产管理软件的进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网站地址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ZC.WFU.EDU.C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用户名：（一卡通卡号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密    码：（默认但不为空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注：进入系统后请立即更改密码，方法如下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系统设置→修改密码→输入新旧密码→确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2-03-06T01:41:04Z</dcterms:modified>
  <cp:revision>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